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6.gif" ContentType="image/gif"/>
  <Override PartName="/ppt/media/image18.jpeg" ContentType="image/jpeg"/>
  <Override PartName="/ppt/media/image22.gif" ContentType="image/gif"/>
  <Override PartName="/ppt/media/image15.jpeg" ContentType="image/jpeg"/>
  <Override PartName="/ppt/media/image29.gif" ContentType="image/gif"/>
  <Override PartName="/ppt/media/image13.jpeg" ContentType="image/jpeg"/>
  <Override PartName="/ppt/media/image19.jpeg" ContentType="image/jpeg"/>
  <Override PartName="/ppt/media/image32.gif" ContentType="image/gif"/>
  <Override PartName="/ppt/media/image11.png" ContentType="image/png"/>
  <Override PartName="/ppt/media/image9.jpeg" ContentType="image/jpeg"/>
  <Override PartName="/ppt/media/image12.gif" ContentType="image/gif"/>
  <Override PartName="/ppt/media/carbrake.wav" ContentType="audio/x-wav"/>
  <Override PartName="/ppt/media/image17.png" ContentType="image/png"/>
  <Override PartName="/ppt/media/type.wav" ContentType="audio/x-wav"/>
  <Override PartName="/ppt/media/image25.gif" ContentType="image/gif"/>
  <Override PartName="/ppt/media/image10.jpeg" ContentType="image/jpeg"/>
  <Override PartName="/ppt/media/image8.jpeg" ContentType="image/jpeg"/>
  <Override PartName="/ppt/media/whoosh.wav" ContentType="audio/x-wav"/>
  <Override PartName="/ppt/media/image27.gif" ContentType="image/gif"/>
  <Override PartName="/ppt/media/image7.png" ContentType="image/png"/>
  <Override PartName="/ppt/media/image1.png" ContentType="image/png"/>
  <Override PartName="/ppt/media/image28.gif" ContentType="image/gif"/>
  <Override PartName="/ppt/media/image5.gif" ContentType="image/gif"/>
  <Override PartName="/ppt/media/image14.jpeg" ContentType="image/jpeg"/>
  <Override PartName="/ppt/media/applause.wav" ContentType="audio/x-wav"/>
  <Override PartName="/ppt/media/image35.png" ContentType="image/png"/>
  <Override PartName="/ppt/media/image24.png" ContentType="image/png"/>
  <Override PartName="/ppt/media/image31.gif" ContentType="image/gif"/>
  <Override PartName="/ppt/media/explode.wav" ContentType="audio/x-wav"/>
  <Override PartName="/ppt/media/drumroll.wav" ContentType="audio/x-wav"/>
  <Override PartName="/ppt/media/image30.wmf" ContentType="image/x-wmf"/>
  <Override PartName="/ppt/media/image33.jpeg" ContentType="image/jpeg"/>
  <Override PartName="/ppt/media/image34.gif" ContentType="image/gif"/>
  <Override PartName="/ppt/media/image16.jpeg" ContentType="image/jpeg"/>
  <Override PartName="/ppt/media/projctor.wav" ContentType="audio/x-wav"/>
  <Override PartName="/ppt/media/camera.wav" ContentType="audio/x-wav"/>
  <Override PartName="/ppt/media/image6.gif" ContentType="image/gif"/>
  <Override PartName="/ppt/media/chimes.wav" ContentType="audio/x-wav"/>
  <Override PartName="/ppt/media/image21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7B8-7251-42A7-B592-D83B1A5E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1BB-E8DE-48B5-B56B-26F2B94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075-DF5E-4AE2-A601-BE34081C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6E8-39D4-4C1C-AC74-878C20C5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1E9-5234-439F-A500-7625E170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6C4-4B07-4A32-9BED-B35F9BF2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6AD-59C5-4A77-813D-4CD5BBED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40E-7582-47C8-B7A0-C8529F29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C09-E2CA-42CB-8530-0942408A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A3D-73C6-4608-AA7A-B62982B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243-04F2-4F8B-9D26-0FC066A7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7A6-07B0-49CF-8399-E2978276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B8C0-4660-4742-AF57-ABD66FF7F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audio" Target="../media/carbrake.wav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5.gif"/><Relationship Id="rId5" Type="http://schemas.openxmlformats.org/officeDocument/2006/relationships/image" Target="../media/image12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4.gif"/><Relationship Id="rId10" Type="http://schemas.openxmlformats.org/officeDocument/2006/relationships/image" Target="../media/image34.gif"/><Relationship Id="rId11" Type="http://schemas.openxmlformats.org/officeDocument/2006/relationships/audio" Target="file:///tmp/home/.config/libreoffice/4/user/gallery/type.wav" TargetMode="External"/><Relationship Id="rId12" Type="http://schemas.microsoft.com/office/2007/relationships/media" Target="file:///tmp/home/.config/libreoffice/4/user/gallery/type.wav" TargetMode="External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3352680"/>
            <a:ext cx="365760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说课教案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371600"/>
            <a:ext cx="5276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EFC   Book3    Unit4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8080"/>
            <a:ext cx="8915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学习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认真做好预习，自觉归纳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上课专心听讲，积极思考，勤于动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通过电话记录、采访、辩论、统计等多种形式，确立在用中、做中交流中学习英语的思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四、教学总体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一） 创设情景，营造氛围，激发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如：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，带两只电话机用于课堂表演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带几只麦克风用于采访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适当地移动课桌使教室像一个辩论现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8153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二）采用“任务型”教学方法，培养学生综合运用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每堂课任务由：课前、课中、课后三部分组成，多样化的任务由课内延伸到课外，这样不仅扩展了知识面，更培养了学生的学习兴趣，努力提高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447920"/>
            <a:ext cx="8229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三）面向全体学生，关注学生的全面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经常性的开展二人、四人小组活动，互帮互学，合作共处，共同进步，培养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7971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16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267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分课教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486400" cy="382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3733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you ever made telephone ca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540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990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V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s of making telephone c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981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lo! May I speak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743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ld on, pleas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/She isn’t here right now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91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I take a message for you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876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’m calling to tell/ask you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5638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’s that? This is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给情景，编一段打电话的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lei telephoned Jim to borrow the book “Who Moved My Cheese”. But Jim isn’t in.Jim’s mother answered the teleph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5627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在使用中巩固打电话用语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990720"/>
            <a:ext cx="784836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371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HON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133720"/>
            <a:ext cx="65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:                           TIME: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163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r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849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head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581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ct.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3611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9:0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3434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’d like to meet you between 8:00 and 9:00 on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2)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听电话录音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获取信息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3):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两人小组获取信息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信息沟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通过提问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获取信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样回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our class will go to the Red Star Farm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we will help the farmers with their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彼此用英语交流信息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同时练习了宾语从句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36440"/>
            <a:ext cx="716256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一、教材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二、教学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三、教学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四、教学总体设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五、分步教学步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561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answers the teleph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318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Mr Green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040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he teacher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809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headmaster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处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57600" y="1371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isn’t there righ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will leave a message on the headmaster’s des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43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080" y="13716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60" y="32004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19335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peak to the headmas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0765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ee him as soon a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44816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on’t be free until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74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can come between 8:00 and 9:00 on 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3581280" cy="201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20" y="1905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0" y="3048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0" y="4419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40" y="56386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914640" cy="5334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19720" y="1143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191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4) :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深入话题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进行猜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609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481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翻译某洗衣粉广告，由濮存晰与一小孩合作做的广告。“妈妈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--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44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793800"/>
            <a:ext cx="5965920" cy="57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447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we do before we get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038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do i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76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 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76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523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 a wonderful train r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004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before getting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906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5238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kimm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68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46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6530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78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062160" y="2514600"/>
            <a:ext cx="135756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762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(2): Intervi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876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生借助自己的生活阅历和已有的语篇结构，对信息做各种合理的处理与加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Which do you like best, travelling by train,by air or by bus? Why? Write the r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ollect some information of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2057400"/>
            <a:ext cx="7238880" cy="33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单元围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及其家人去峨眉山旅游这一话题，先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父亲打电话约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由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在，引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elephone messa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然后坐火车旅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4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回校与同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in Tao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流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5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对交通工具的优劣比较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08040"/>
            <a:ext cx="1981080" cy="534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37240" y="1828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一） 教学内容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68776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352680" y="5045040"/>
            <a:ext cx="2743200" cy="1736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352680" y="785880"/>
            <a:ext cx="5562720" cy="210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81280" y="763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95080" y="990720"/>
            <a:ext cx="7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ip to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中心任务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介绍峨眉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15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前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因特网等途径收集有关峨眉山的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30560"/>
            <a:ext cx="9144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中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享资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自告奋勇用英语向全班介绍峨眉山的一些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师引导其他同学用宾语从句重复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的介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A: There a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re we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B: The clouds in the mountain a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 clouds in the mountain we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后任务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位学生把所收集到的资料编成墙报，展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504960" cy="294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29000" cy="2957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181480" y="3984480"/>
            <a:ext cx="3353040" cy="287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33520" y="4094280"/>
            <a:ext cx="3504960" cy="276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228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otball mat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Memory challeng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Have a competition between boys and gir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8590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’s teacher tell them abou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46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when he me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0780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6878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the score of the m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2973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his own football t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9831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his trip to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668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the pho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6248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Winner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474040" y="6130800"/>
            <a:ext cx="365040" cy="650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061480" y="6164280"/>
            <a:ext cx="320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83808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se you are Jim or Lin Tao ,write a diary about the trip or the football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666880" cy="224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0" y="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6360" y="66600"/>
            <a:ext cx="8532720" cy="6638760"/>
            <a:chOff x="306360" y="66600"/>
            <a:chExt cx="8532720" cy="6638760"/>
          </a:xfrm>
        </p:grpSpPr>
        <p:grpSp>
          <p:nvGrpSpPr>
            <p:cNvPr id="181" name=""/>
            <p:cNvGrpSpPr/>
            <p:nvPr/>
          </p:nvGrpSpPr>
          <p:grpSpPr>
            <a:xfrm>
              <a:off x="311040" y="71280"/>
              <a:ext cx="8523360" cy="6629400"/>
              <a:chOff x="311040" y="71280"/>
              <a:chExt cx="8523360" cy="6629400"/>
            </a:xfrm>
          </p:grpSpPr>
          <p:sp>
            <p:nvSpPr>
              <p:cNvPr id="182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42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06360" y="66600"/>
              <a:ext cx="8532720" cy="6638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84440" y="228600"/>
            <a:ext cx="578304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838080"/>
          <a:ext cx="8686800" cy="5743800"/>
        </p:xfrm>
        <a:graphic>
          <a:graphicData uri="http://schemas.openxmlformats.org/drawingml/2006/table">
            <a:tbl>
              <a:tblPr/>
              <a:tblGrid>
                <a:gridCol w="3879720"/>
                <a:gridCol w="849240"/>
                <a:gridCol w="901800"/>
                <a:gridCol w="703080"/>
                <a:gridCol w="755640"/>
                <a:gridCol w="849600"/>
                <a:gridCol w="747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’anmen, Wangfuj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the railway s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jing, Shang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du, N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ngzhou, Hong K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jin, D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ingdao, San Francisc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city, Tok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644480" cy="1714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505320" y="99072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400800" y="3962520"/>
            <a:ext cx="1589040" cy="1234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380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p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5867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0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fast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ay to tra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28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Discu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447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lo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873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895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af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343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334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said the____ way to  travel was 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102384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895480" y="6618240"/>
            <a:ext cx="5965920" cy="23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371600" y="5969160"/>
            <a:ext cx="1143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57200" y="609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: 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57200"/>
            <a:ext cx="91440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）教学重点、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、教学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宾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有用的词语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 soon as possible                that would be fine    keep doing    Hurry up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leep    wake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：制定旅行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523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地图上指出学校所在地的位置与峨眉山的位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组讨论去峨眉山的方案，从学校到车站的交通方式，从学校所在城市到成都的交通方式（可否直达），从成都到峨眉山等等，并说明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评价：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heap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as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af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omfortabl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机结合为标准，评出最佳方案若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Argument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：</a:t>
            </a:r>
            <a:br>
              <a:rPr sz="4400"/>
            </a:br>
            <a:r>
              <a:rPr b="0" i="1" lang="zh-CN" sz="4400" spc="-1" strike="noStrike">
                <a:solidFill>
                  <a:srgbClr val="ff00ff"/>
                </a:solidFill>
                <a:latin typeface="Times New Roman"/>
              </a:rPr>
              <a:t>Is travelling good or bad?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全班同学分成两半，确定正方与反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分别讨论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GOOD POINTS &amp; BAD POINTS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展开辩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0040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397160"/>
          <a:ext cx="7543800" cy="4622760"/>
        </p:xfrm>
        <a:graphic>
          <a:graphicData uri="http://schemas.openxmlformats.org/drawingml/2006/table">
            <a:tbl>
              <a:tblPr/>
              <a:tblGrid>
                <a:gridCol w="3809880"/>
                <a:gridCol w="37339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different and interesting 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nd too much 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143000" y="2819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76320" y="304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ask: argument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辩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417680" cy="1425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886200" y="457200"/>
            <a:ext cx="1452600" cy="2143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2711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hai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54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886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e/she said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6095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winn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380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1337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a short passage about travelling, “It’s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good/b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us to travel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43080"/>
            <a:ext cx="8610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六、评价手段和操作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形成性评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一）非测试性评价：教学评价既要关注结果，又要关注过程，应是两者有机结合。为此本单元通过对学生的书面作业、对话表演、回答问题、讨论利弊、小组活动等，对学生的学习能力、学习态度、合作精神、创新意识等作出过程性评价。这种评价有助于教师发现每位同学的闪光点，也可以让多数学生体验成功的喜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83808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一：对话表演评比（优秀、良好、一般、需努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981080"/>
          <a:ext cx="8534520" cy="30225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752840"/>
                <a:gridCol w="1752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课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音语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言表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作表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整体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我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组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6858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二：小组活动记录表（积极、尚积极、一般、不参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2235240"/>
          <a:ext cx="7010640" cy="248904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143000"/>
                <a:gridCol w="37339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91120" y="5105520"/>
            <a:ext cx="90936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791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06668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5791320" y="1828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1911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27432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35812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2880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金华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6095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俞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33720" y="259092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4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28800"/>
            <a:ext cx="8381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、教学难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创设使用宾语从句的情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任务的真实性与教育性的统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209680"/>
            <a:ext cx="84582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 任务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信息的分析与整合、分享感受和经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、教学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运用“任务型”教学途径，培养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突出交际性，注重启发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在用中学，创建信息沟，实现信息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458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一）知识技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一些重点词汇、短语和句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提高学生听、说、读、写及综合运用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523880"/>
            <a:ext cx="71629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二）情感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对事物做到一分为二的分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开展小组活，积极与人合作，互帮互学，学会共处，具有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2:29:47Z</dcterms:created>
  <dc:creator>jk</dc:creator>
  <dc:description/>
  <dc:language>en-US</dc:language>
  <cp:lastModifiedBy>金泳奇</cp:lastModifiedBy>
  <dcterms:modified xsi:type="dcterms:W3CDTF">2004-09-15T09:26:11Z</dcterms:modified>
  <cp:revision>23</cp:revision>
  <dc:subject/>
  <dc:title>PowerPoint 演示文稿</dc:title>
</cp:coreProperties>
</file>